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C8F6-B76D-4275-81D5-773D98ED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594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F369-A319-4EFA-BDC8-6FBDE977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79120" y="129528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594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79120" y="36594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FA33-20F1-41B5-BC80-F5850369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1120" y="129528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5040" y="129528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594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1120" y="36594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5040" y="36594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A68D-8F8A-40C4-961F-95319D8B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E3FB-E37E-4912-BBC3-5656FA83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896F-1B28-4D5D-BA4A-15E4A905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79120" y="129528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593F-95DE-4BC6-A260-4989E1FA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43E5-E7D0-40A9-8B7E-0EBF56E8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6BBB-728F-4E8F-8E0B-9827BF84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9120" y="129528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594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D86A-8521-46C3-9E77-090161D8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9120" y="129528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79120" y="36594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0AE-5901-4C53-B828-427FA68F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79120" y="129528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594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D2CB-1712-4ECD-A5E2-B8416EE5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7A8C-8963-4A8F-AC07-A13E9E483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8120" y="712800"/>
            <a:ext cx="3297240" cy="4925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486400"/>
            <a:ext cx="7772400" cy="1295280"/>
          </a:xfrm>
          <a:prstGeom prst="rect">
            <a:avLst/>
          </a:prstGeom>
          <a:solidFill>
            <a:srgbClr val="99ccff">
              <a:alpha val="55000"/>
            </a:srgbClr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gleich von Planungssysteme für die Robotersteuerung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534520" y="6095880"/>
            <a:ext cx="380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181080"/>
            <a:ext cx="592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808080"/>
                </a:solidFill>
                <a:latin typeface="Arial"/>
              </a:rPr>
              <a:t>Cognitive Robotics Project II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058D-3675-4EF7-B5EA-3BA511D2F2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Gliederung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84872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gabenstel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ische Planungssyst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tric-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LV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P: Reaktives Pl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gl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4A82-2412-437C-A828-8DC2B5053D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867280" cy="3745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Aufgabenstellung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543800" cy="121896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chiedene Produk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chiedene Produktionsstä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erte 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1219320"/>
            <a:ext cx="4572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5867280"/>
            <a:ext cx="75438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: Möglichst „schnell“ ein Produkt he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59A0-4A33-49EC-AE0A-4D78F60128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DLVK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84872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führung mit dem dlv-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lementation in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beit mit unvollständigem W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twortmengen-basiertes Problemlö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886200"/>
            <a:ext cx="7848720" cy="1447920"/>
          </a:xfrm>
          <a:prstGeom prst="rect">
            <a:avLst/>
          </a:prstGeom>
          <a:solidFill>
            <a:srgbClr val="ff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e mit Plänen über 10-20 Sch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r Pläne fester Planlä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ür uns nicht geeig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8AA7-540B-4070-A8D4-443EBB3D78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808080"/>
                </a:solidFill>
                <a:latin typeface="Arial"/>
              </a:rPr>
              <a:t>Metric-FF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848720" cy="281952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lementation in PD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hr gut für „einfache“ Planungsprobl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ach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 Umständen umfangreiche Plä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nden der Pläne einf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 modifiziertes Hill Climb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724280"/>
            <a:ext cx="784872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Produktion eines Weckers fast zu k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9C28-DFC5-4F09-8E2D-9AC497624F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RAP Fabrikaufgabenaufteilung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162920" cy="48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804B-68B7-4BE4-8A39-4E22720C37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RAP Fabrikbeispi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848720" cy="335304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ungszeit vernachlässig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ine optimalen 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giert auf Veränderungen in der „Welt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eitet mit den vorhandenen Fabriklagerbestä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üft Lagerbestände der Fabri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ände dynamisch änder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62CF-A767-4F0E-94C8-D9A1D08CBC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Vergleich der Planer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1371600"/>
          <a:ext cx="7848720" cy="4089240"/>
        </p:xfrm>
        <a:graphic>
          <a:graphicData uri="http://schemas.openxmlformats.org/drawingml/2006/table">
            <a:tbl>
              <a:tblPr/>
              <a:tblGrid>
                <a:gridCol w="1214280"/>
                <a:gridCol w="2427480"/>
                <a:gridCol w="2265480"/>
                <a:gridCol w="19414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we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zu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ic-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07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rigin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Gehä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 Schri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 Schri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0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Gehä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. 336 Schri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1 Schri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0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Gehä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. 840 Schri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5 Schri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07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rigin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Radiowec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 Schri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1 Schri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0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Radiowec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. 716 Schri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7 Schri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0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Radiowec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. 17900 Schri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83 Schri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Radiowec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7 Schri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685800" y="5562720"/>
            <a:ext cx="7848720" cy="9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einfachende Annah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Reaktivität in Anwendungsbei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9BE7-E6E9-476F-8EA8-3340356417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Fazi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848720" cy="160020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ktiver Pla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nelle Reaktion auf Umwelteinflü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n Problem mit großen Plä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ne optimalen Plä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200400"/>
            <a:ext cx="7848720" cy="198108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5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ische Planer wie Metric-FF und DLV^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timale Plä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planen bei Umweltänderungen sehr zeitaufwen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hr großer Zeitaufwand bei größeren Plä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6869-81C3-4381-8B85-DEF32AD359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ald Meyer</cp:lastModifiedBy>
  <dcterms:modified xsi:type="dcterms:W3CDTF">2004-04-28T11:13:25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