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ABF-5905-49F6-B60B-6A96E367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594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835-4247-425E-9C5F-F6B98C7D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594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9120" y="36594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773-786E-492F-A491-6DE41235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1120" y="12952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040" y="12952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594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1120" y="36594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040" y="36594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437-080D-4661-B02C-0AC4A888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2AB-9974-432E-8786-38C20B4A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E36-46C0-4C6F-A435-BAA1F9F1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C02-9131-4D51-B86F-DBEC475E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050-753D-4646-8ECB-20ED0F3A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ECD-B653-4A88-A786-B11EE954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594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7F4-5273-4986-8344-691FC8C7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9120" y="36594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F13-45C6-4CE8-8222-C96D9359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594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B3C-BE6D-4074-B91D-275804C6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4583-5541-463E-8CCB-779F65F2A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8120" y="712800"/>
            <a:ext cx="3297240" cy="4925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486400"/>
            <a:ext cx="7772400" cy="1295280"/>
          </a:xfrm>
          <a:prstGeom prst="rect">
            <a:avLst/>
          </a:prstGeom>
          <a:solidFill>
            <a:srgbClr val="99ccff">
              <a:alpha val="55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gleich von Planungssysteme für die Robotersteuerung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6095880"/>
            <a:ext cx="380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81080"/>
            <a:ext cx="59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808080"/>
                </a:solidFill>
                <a:latin typeface="Arial"/>
              </a:rPr>
              <a:t>Cognitive Robotics Project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DB8-7715-494C-8002-8043063D91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Gliederun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tel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ische Planungs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ric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LV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P: Reaktives Pl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36E-EB5B-4CEE-B822-A6612914A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867280" cy="3745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Aufgabenstellun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543800" cy="12189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chiedene Produ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chiedene Produktionsst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erte 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121932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867280"/>
            <a:ext cx="75438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Möglichst „schnell“ ein Produkt he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2FA-2AD1-4C9B-90B6-E7988F4CCD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DLVK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mit dem dlv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ation i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 mit unvollständigem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twortmengen-basiertes Probleml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86200"/>
            <a:ext cx="7848720" cy="144792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e mit Plänen über 10-20 Sch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 Pläne fester Planl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ür uns nicht geei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2C5-A741-4158-B675-CB9A517587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08080"/>
                </a:solidFill>
                <a:latin typeface="Arial"/>
              </a:rPr>
              <a:t>Metric-FF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28195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ation in P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hr gut für „einfache“ Planungs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Umständen umfangreiche 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nden der Pläne einf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modifiziertes Hill Clim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724280"/>
            <a:ext cx="784872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Produktion eines Weckers fast zu k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3EA-AE66-4A95-9668-9272474B86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AP Fabrikaufgabenaufteilun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1629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684-4608-4966-9323-20EB811827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AP Fabrikbeispi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33530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ungszeit vernachlässi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optimalen 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iert auf Veränderungen in der „Wel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tet mit den vorhandenen Fabriklagerbestä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üft Lagerbestände der Fabr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ände dynamisch änder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E18-E6AD-4CCB-A66B-5F646FB025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Vergleich der Plane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371600"/>
          <a:ext cx="7848720" cy="4089240"/>
        </p:xfrm>
        <a:graphic>
          <a:graphicData uri="http://schemas.openxmlformats.org/drawingml/2006/table">
            <a:tbl>
              <a:tblPr/>
              <a:tblGrid>
                <a:gridCol w="1214280"/>
                <a:gridCol w="2427480"/>
                <a:gridCol w="2265480"/>
                <a:gridCol w="1941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we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zu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-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igi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ehä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ehä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336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ehä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840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igi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Radiowe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Radiowe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716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7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Radiowe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7900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83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Radiowe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685800" y="5562720"/>
            <a:ext cx="784872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ende Annah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Reaktivität in Anwendungs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C8E-39C5-4F27-9F9C-0AA83D82EC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azi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tiver Pla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nelle Reaktion auf Umwelteinflü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 Problem mit großen 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optimalen 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200400"/>
            <a:ext cx="7848720" cy="19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ische Planer wie Metric-FF und DLV^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male 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planen bei Umweltänderungen sehr zeitaufwen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hr großer Zeitaufwand bei größeren 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0E5-D1A5-4FC5-AE73-3B8B1ED0ED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ald Meyer</cp:lastModifiedBy>
  <dcterms:modified xsi:type="dcterms:W3CDTF">2004-04-28T11:13:25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